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D06-6ACC-45C1-A070-1B08121F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167-3838-4AB2-AB54-A71AE785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04F-7434-486D-9CD4-3F130F68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B4A-9E75-46BC-B745-203E4E96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F034-704D-44F9-BC89-8473404C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567C-C562-4991-A23A-59769CD6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919-0309-4FC9-BE0F-7289EA17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18B-4D8B-4496-B44A-A4F7D308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951-F7BD-46CD-909A-82CCC5A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1D51-5EF8-433D-A721-25696AC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FC4A-9732-4DE1-9984-6555FCA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9EF-EDFD-43D4-B1B0-E03EA0E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2041-A8D2-49CC-A526-D9233E6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689-CF33-4B6A-8892-C41A40C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8E39-3488-4B7C-B097-8CE6D491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0B75-4ED3-4A60-8053-C5150501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1C72-122C-459A-85FF-2F7BD49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460-ED63-404D-8963-62D988FF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8EC-E9A8-4D11-AA39-69ADBB7D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D29-EC17-471A-99E4-9EBBDE9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A76-EAFB-46DE-B7CC-CC39A1D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69D-BE62-49A0-8C71-F1963E7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6E9-340E-438D-A70E-46AC727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6C7-1745-464E-BDA7-21A6654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C259-0259-49A3-ABFD-63DA1C1EEF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447-B4F9-4950-B55B-7C4F69A019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207640" cy="11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Из истории масштаба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4" descr="images"/>
          <p:cNvPicPr/>
          <p:nvPr/>
        </p:nvPicPr>
        <p:blipFill>
          <a:blip r:embed="rId1"/>
          <a:stretch/>
        </p:blipFill>
        <p:spPr>
          <a:xfrm>
            <a:off x="1692360" y="2492280"/>
            <a:ext cx="5113080" cy="40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ому феномену и понятию не повезло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о стало в обыденной речи синонимом размера. Истинное и первоначальное значение слова «крупномасштабный» — изображенный и рассматриваемый с высокой степенью подроб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 — отношение между объектом в реальности и его отображением, описанием, представлением его смысла (на карте, но и не только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Maßst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Maß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мера, размер, 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ta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пал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ы изображений на чертежах должны выбираться из следующего ряда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ы уменьшения 1:2; 1:2,5; 1:4; 1:5; 1:10; 1:15; 1:20; 1:25; 1:40; 1:50; 1:75; 1:100; 1:200; 1:400; 1:500; 1:800;  1:1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туральная величина 1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ы увеличения 2:1; 2,5:1; 4:1; 5:1; 10:1; 20:1; 40:1; 50:1; 100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48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штаб появился вместе с первыми картами…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ые упоминания о карте в Китае относятся к III веку до нашей эры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5" descr="китай"/>
          <p:cNvPicPr/>
          <p:nvPr/>
        </p:nvPicPr>
        <p:blipFill>
          <a:blip r:embed="rId1"/>
          <a:stretch/>
        </p:blipFill>
        <p:spPr>
          <a:xfrm>
            <a:off x="2843280" y="3573360"/>
            <a:ext cx="3672000" cy="29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987120"/>
            <a:ext cx="8435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ь карт Царства Цинь IV века до нашей эры были нарисованы черными чернилами на деревянных блок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 двух из них указаны расстояния пробега в ли — китайское единице измерения расстояния, в древности составляющей 300 или 600 шагов, а по современному общепринятому значению — 500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хорошо что есть масштаб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и один географический объект – реку, мост, поселок – невозможно изобразить на топографическом плане, карте в натуральную величину. Люди всегда рисовали уменьшенные изображения местности, причем разные участки изображения уменьшали произвольно, в разной степени. Поэтому старинные чертежи местности не дают возможности понять, например, каково расстояние между берегами реки, чему равна длина реки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тобы план местности был более точным, необходимо все его детали уменьшать в одинаково число раз с сохранением всех пропор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клад подготовила группа Первопроход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4" descr="image003"/>
          <p:cNvPicPr/>
          <p:nvPr/>
        </p:nvPicPr>
        <p:blipFill>
          <a:blip r:embed="rId1"/>
          <a:stretch/>
        </p:blipFill>
        <p:spPr>
          <a:xfrm>
            <a:off x="2627280" y="1844640"/>
            <a:ext cx="35784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9T10:50:57Z</dcterms:created>
  <dc:creator>Елена</dc:creator>
  <dc:description/>
  <dc:language>en-US</dc:language>
  <cp:lastModifiedBy>Колян</cp:lastModifiedBy>
  <dcterms:modified xsi:type="dcterms:W3CDTF">2011-05-29T13:55:31Z</dcterms:modified>
  <cp:revision>4</cp:revision>
  <dc:subject/>
  <dc:title>Из истории масштаба…</dc:title>
</cp:coreProperties>
</file>